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D30-D641-4872-ACC2-E4D66293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E5B-73E4-4CDE-A28C-3440469F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9BF-C673-439E-84D2-E65F872C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9BE-5BD2-4560-92CA-0F925894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9826-3D4F-4490-8A09-F9F56550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D433-4B93-4CE0-8EE8-FA2AD442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4714-7919-4D1C-8A1A-FE05F55E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751C-D64A-4F92-8FF8-4871D612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50DB-2BB0-42A6-BCC8-13D080F0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91A1-1F52-4AC6-8283-F80D1FCA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029F-4203-4684-8A25-E93AD0DA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6DA-062E-42C8-9AA2-83355075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5F05-ED33-468F-A980-2A7959BD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7661-19EB-46CF-B537-1030D33F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C673-83F1-4B45-B9AE-70AD34F8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4A3D-2454-4C8D-937E-9D9D21B4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51F8-DCEF-41A6-847A-64E3D8C4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3DA-7785-40B8-BC8E-B148E7AB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5F0-7141-43CE-9A67-2BB24CFF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4F7-87A0-4B9B-8297-1FF99A2E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C23-DB3E-4EE4-92C1-8BBC94D5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83A-60A5-42AF-A47F-21DF03AA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B109-4B22-45F2-BDFE-4D6F9B1A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0BA-990F-4321-A2F7-715C19D7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CA42-B90A-4F21-90F0-1C854A91DD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4E92-0B11-4181-8ED8-3F76D8899E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ra.co.uk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4600"/>
            </a:br>
            <a:r>
              <a:rPr b="1" lang="en-US" sz="46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: The Nature of Research: Research eth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ethical pract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the form write down example of unethical practice and the reasons why you think they are 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ke your Ethics committees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1                  proposal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2                  proposal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3                  proposal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a name to your group, discuss your proposal and grade it from 1 to 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5 is very ethical and 1 very uneth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3995640" y="256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3995640" y="31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3995640" y="3645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Ethical considerations are important throughout the whole process of the resear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Researchers have to weigh up  the possible benefits of their study and the possible harm caused to all parties involv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motional, financial physical, psychological ham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Arial"/>
              </a:rPr>
              <a:t>Ethics committe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Educational Research Association - 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ww.bera.co.u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case description and answer to the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stand importance of ethics in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ility to apply ethic to research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ility to review ethics in other people’s resear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you know what is…….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hic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hical jud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nym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ence of ha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e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giar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 this ethical behaviou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ff"/>
                </a:solidFill>
                <a:latin typeface="Arial"/>
              </a:rPr>
              <a:t>Group 1 read “</a:t>
            </a:r>
            <a:r>
              <a:rPr b="0" i="1" lang="en-US" sz="3000" spc="-1" strike="noStrike">
                <a:solidFill>
                  <a:srgbClr val="ff99ff"/>
                </a:solidFill>
                <a:latin typeface="Arial"/>
              </a:rPr>
              <a:t>Simple leve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Group 2 read</a:t>
            </a:r>
            <a:r>
              <a:rPr b="0" i="1" lang="en-US" sz="3000" spc="-1" strike="noStrike">
                <a:solidFill>
                  <a:srgbClr val="00b050"/>
                </a:solidFill>
                <a:latin typeface="Arial"/>
              </a:rPr>
              <a:t> “ Intermediate leve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Arial"/>
              </a:rPr>
              <a:t>Group 3 read</a:t>
            </a:r>
            <a:r>
              <a:rPr b="0" i="1" lang="en-US" sz="3000" spc="-1" strike="noStrike">
                <a:solidFill>
                  <a:srgbClr val="00b0f0"/>
                </a:solidFill>
                <a:latin typeface="Arial"/>
              </a:rPr>
              <a:t> “ Advanced leve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k yoursel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How would children feel if no one picks them as friend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Are children sincere in their choice or copy 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Should this data collection occu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Is this cruel to monkey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Does the end justify the mea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What is the opinion about secret came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What is the opinion about showing violence even to a dol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Should these types of experiments be allow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w you know what is…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99"/>
                </a:solidFill>
                <a:latin typeface="Arial"/>
              </a:rPr>
              <a:t>Ethic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ral principals that control a person’s behavi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Arial"/>
              </a:rPr>
              <a:t>Ethical judgmen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orally correct behavi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00"/>
                </a:solidFill>
                <a:latin typeface="Arial"/>
              </a:rPr>
              <a:t>Informed consen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ving consent from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Confidentialit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ing information only for the purpose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Anonymit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ot revealing the identity of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w you know what is…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Arial"/>
              </a:rPr>
              <a:t>Absence of harm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harming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Deception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ing dishonest about true intention to collec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Arial"/>
              </a:rPr>
              <a:t>Plagiarism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ying data of others without con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ff"/>
                </a:solidFill>
                <a:latin typeface="Arial"/>
              </a:rPr>
              <a:t>Storage data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e data for other occasion and purpo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uiding principles for ethical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Respect of participants</a:t>
            </a:r>
            <a:r>
              <a:rPr b="0" lang="en-US" sz="3000" spc="-1" strike="noStrike">
                <a:solidFill>
                  <a:srgbClr val="6600cc"/>
                </a:solidFill>
                <a:latin typeface="Arial"/>
              </a:rPr>
              <a:t> (privacy, culture, personal dign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Respects of the participants’ rights</a:t>
            </a:r>
            <a:r>
              <a:rPr b="0" lang="en-US" sz="3000" spc="-1" strike="noStrike">
                <a:solidFill>
                  <a:srgbClr val="ff99ff"/>
                </a:solidFill>
                <a:latin typeface="Arial"/>
              </a:rPr>
              <a:t> (protection from harm, be fully informed on the purpose of the research and to be listen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Best outcomes</a:t>
            </a:r>
            <a:r>
              <a:rPr b="0" lang="en-US" sz="3000" spc="-1" strike="noStrike">
                <a:solidFill>
                  <a:srgbClr val="d60093"/>
                </a:solidFill>
                <a:latin typeface="Arial"/>
              </a:rPr>
              <a:t> (promote best outcomes/benefits for participan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anning ethical interview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are going to interview grade 7 boys about fighting in the playgrou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what you would say to them to ensure that the interview will be eth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it first without template and than compare it with temp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3:50:00Z</dcterms:created>
  <dc:creator>user</dc:creator>
  <dc:description/>
  <dc:language>en-US</dc:language>
  <cp:lastModifiedBy>Lorenza Innocenti</cp:lastModifiedBy>
  <dcterms:modified xsi:type="dcterms:W3CDTF">2008-05-25T08:03:42Z</dcterms:modified>
  <cp:revision>8</cp:revision>
  <dc:subject/>
  <dc:title>Course: Fundamentals of Research</dc:title>
</cp:coreProperties>
</file>